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4B12-983D-4F32-9E25-592EA3924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haracteristics of Successful Literacy Classroom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and going back to curriculum being the driver, lets identify your student populations’ reading barriers--what’s keeping them from achieving benchmarks, standard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OHIO-they’ve created and adopted the multi-demensional cone that addresses distinguishes between academic and behavioral interven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ademic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Empirically validated instru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Education: All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Protocol Treatments: Small group tutoring (3-4) in general edu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Solving: Individualized interventions in general education leading to, in some cases, sp ed elig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 education: More intense services brought to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intensity and measurement pr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havior-(Empirically validated behavior change princip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Education: School wide positive 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 Protocol Treatments: Classroom organization an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Solving: Targeted individual interventions in gener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 education: More intense services brought to th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intensity and measurement pr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 of the cone is divided into six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 to Arizona, they like the circle--same as the three-tiered pyram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ommon requirements identified by NCLB an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haracteristics of Successful Literacy Classroom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6DA-4729-4910-9E18-70F30A21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972-B19D-4D26-8A39-1DCCCEC2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F37-6110-4427-91B4-6DFD2293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C09-8140-4C88-8D20-A4C2BB20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F25-624C-4763-9FD1-697DA8CE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C7C8-AFF0-4222-8C07-92C1248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E2CA-F258-4CC5-A8D4-2FABE12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ED4B-3B3C-498A-BCA2-5BD9348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7D7-E1B0-4265-8469-36C24E1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44AD-758F-4F89-A2AF-C26C62C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51C-67A2-4128-9BB2-2CB0894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05D-5320-4971-8E14-6B92C0F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E401-AD47-44EE-9171-4863571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4843-10C5-44DA-8EFC-A531FDD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3541-3FF4-464D-BC1A-7B4FC15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96EC-F01A-4F63-BDF2-DE8297BF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194-7E8C-441C-98E5-5ECBAB3F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A07-6126-47F0-A432-3B4EB18C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C1E-83BA-4F93-BDA2-7C24C64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C83-46EA-4FA3-A022-D6B4D7D2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B4F-BB94-4381-84BD-A201417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428-DB00-4DAF-92F7-2F40EE4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508-3639-47B5-8A08-E349E34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A7E-3ECA-452D-963B-93CB1B0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6B7-1AF3-4A4C-8788-87E6C15DFA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B4B-8694-4A53-88F8-C775D79143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tI –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ust another anacronym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040" y="5331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reat deal of time spent actually 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ence reading texts for real rea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ence reading the range of texts genres students are expected to comprehe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 rich in vocabulary and concept development through reading, experience, and above all, discussion of words and their mean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 spent writing texts for others to comprehe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-quality talk about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6537240"/>
            <a:ext cx="274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ke and Pearson,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ading Performance Barrie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0481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971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7696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17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Arial"/>
                <a:ea typeface="ＭＳ Ｐゴシック"/>
              </a:rPr>
              <a:t>An Integrated 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Arial"/>
                <a:ea typeface="ＭＳ Ｐゴシック"/>
              </a:rPr>
              <a:t>Intervention Based Services &amp; Positive Behavio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38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Academ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Empirically Validat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Behavio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Empirically Validated Behavior Chan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6686640"/>
            <a:ext cx="3657600" cy="171360"/>
          </a:xfrm>
          <a:prstGeom prst="rect">
            <a:avLst/>
          </a:prstGeom>
          <a:solidFill>
            <a:srgbClr val="cc9900"/>
          </a:solidFill>
          <a:ln w="6480">
            <a:solidFill>
              <a:srgbClr val="30325b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325b"/>
                </a:solidFill>
                <a:latin typeface="Arial"/>
                <a:ea typeface="ＭＳ Ｐゴシック"/>
              </a:rPr>
              <a:t>Adapted from OSEP Effective School-Wide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68880" y="2755800"/>
            <a:ext cx="3441600" cy="1066680"/>
            <a:chOff x="4268880" y="2755800"/>
            <a:chExt cx="3441600" cy="1066680"/>
          </a:xfrm>
        </p:grpSpPr>
        <p:sp>
          <p:nvSpPr>
            <p:cNvPr id="100" name=""/>
            <p:cNvSpPr/>
            <p:nvPr/>
          </p:nvSpPr>
          <p:spPr>
            <a:xfrm>
              <a:off x="4967280" y="312408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  <a:ea typeface="ＭＳ Ｐゴシック"/>
                </a:rPr>
                <a:t>5-10% Targeted-Classroom Organization an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268880" y="2755800"/>
              <a:ext cx="7524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863640" y="2743200"/>
            <a:ext cx="3390480" cy="1066680"/>
            <a:chOff x="863640" y="2743200"/>
            <a:chExt cx="3390480" cy="1066680"/>
          </a:xfrm>
        </p:grpSpPr>
        <p:sp>
          <p:nvSpPr>
            <p:cNvPr id="103" name=""/>
            <p:cNvSpPr/>
            <p:nvPr/>
          </p:nvSpPr>
          <p:spPr>
            <a:xfrm>
              <a:off x="863640" y="3174840"/>
              <a:ext cx="266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  <a:ea typeface="ＭＳ Ｐゴシック"/>
                </a:rPr>
                <a:t>5-10% Targeted Interventions Small Group Tu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543120" y="2743200"/>
              <a:ext cx="71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1015920" y="2133720"/>
            <a:ext cx="3251160" cy="761760"/>
            <a:chOff x="1015920" y="2133720"/>
            <a:chExt cx="3251160" cy="761760"/>
          </a:xfrm>
        </p:grpSpPr>
        <p:sp>
          <p:nvSpPr>
            <p:cNvPr id="106" name=""/>
            <p:cNvSpPr/>
            <p:nvPr/>
          </p:nvSpPr>
          <p:spPr>
            <a:xfrm>
              <a:off x="1015920" y="2361960"/>
              <a:ext cx="27432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1-5% Intensive Individualized Interven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3885840" y="2133720"/>
              <a:ext cx="38124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262400" y="2070000"/>
            <a:ext cx="3219480" cy="838080"/>
            <a:chOff x="4262400" y="2070000"/>
            <a:chExt cx="3219480" cy="838080"/>
          </a:xfrm>
        </p:grpSpPr>
        <p:sp>
          <p:nvSpPr>
            <p:cNvPr id="109" name=""/>
            <p:cNvSpPr/>
            <p:nvPr/>
          </p:nvSpPr>
          <p:spPr>
            <a:xfrm>
              <a:off x="4662720" y="2361960"/>
              <a:ext cx="2819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1-5% Intensive Individualized Interven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4262400" y="2070000"/>
              <a:ext cx="3873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4267080" y="3733920"/>
            <a:ext cx="3276720" cy="2895480"/>
            <a:chOff x="4267080" y="3733920"/>
            <a:chExt cx="3276720" cy="2895480"/>
          </a:xfrm>
        </p:grpSpPr>
        <p:sp>
          <p:nvSpPr>
            <p:cNvPr id="112" name=""/>
            <p:cNvSpPr/>
            <p:nvPr/>
          </p:nvSpPr>
          <p:spPr>
            <a:xfrm>
              <a:off x="5486400" y="464832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80-90% School-Wide Positive Discipline</a:t>
              </a:r>
              <a:r>
                <a:rPr b="1" lang="en-US" sz="1400" spc="-1" strike="noStrike">
                  <a:solidFill>
                    <a:srgbClr val="cccc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4267080" y="3733920"/>
              <a:ext cx="1800360" cy="28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939960" y="3657600"/>
            <a:ext cx="3313080" cy="2971800"/>
            <a:chOff x="939960" y="3657600"/>
            <a:chExt cx="3313080" cy="2971800"/>
          </a:xfrm>
        </p:grpSpPr>
        <p:sp>
          <p:nvSpPr>
            <p:cNvPr id="115" name=""/>
            <p:cNvSpPr/>
            <p:nvPr/>
          </p:nvSpPr>
          <p:spPr>
            <a:xfrm>
              <a:off x="939960" y="464832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  <a:ea typeface="ＭＳ Ｐゴシック"/>
                </a:rPr>
                <a:t>80-90% School-Wide Intervention, General Education</a:t>
              </a:r>
              <a:r>
                <a:rPr b="1" lang="en-US" sz="1400" spc="-1" strike="noStrike">
                  <a:solidFill>
                    <a:srgbClr val="cccc0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2540160" y="3657600"/>
              <a:ext cx="171288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0" y="5715000"/>
            <a:ext cx="1828800" cy="824040"/>
          </a:xfrm>
          <a:prstGeom prst="rect">
            <a:avLst/>
          </a:prstGeom>
          <a:noFill/>
          <a:ln w="9360">
            <a:solidFill>
              <a:srgbClr val="201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1f7f"/>
                </a:solidFill>
                <a:latin typeface="Arial"/>
                <a:ea typeface="ＭＳ Ｐゴシック"/>
              </a:rPr>
              <a:t>Decisions about tiers of support are data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00400" y="6129360"/>
            <a:ext cx="1981080" cy="568440"/>
            <a:chOff x="3200400" y="6129360"/>
            <a:chExt cx="1981080" cy="568440"/>
          </a:xfrm>
        </p:grpSpPr>
        <p:sp>
          <p:nvSpPr>
            <p:cNvPr id="119" name=""/>
            <p:cNvSpPr/>
            <p:nvPr/>
          </p:nvSpPr>
          <p:spPr>
            <a:xfrm>
              <a:off x="4127400" y="6149880"/>
              <a:ext cx="304920" cy="3070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6141960"/>
              <a:ext cx="30456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6421320"/>
              <a:ext cx="30456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27400" y="641844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640872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6129360"/>
              <a:ext cx="304920" cy="276480"/>
            </a:xfrm>
            <a:prstGeom prst="rect">
              <a:avLst/>
            </a:prstGeom>
            <a:solidFill>
              <a:srgbClr val="00e700"/>
            </a:solidFill>
            <a:ln w="93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91919"/>
                  </a:solidFill>
                  <a:latin typeface="Times New Roman"/>
                  <a:ea typeface="ＭＳ Ｐ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pted from OSEP Effective School-Wide Interventions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325b"/>
                </a:solidFill>
                <a:latin typeface="Times New Roman"/>
                <a:ea typeface="ＭＳ Ｐゴシック"/>
              </a:rPr>
              <a:t>Core Components of IBS/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1447920"/>
            <a:ext cx="2133720" cy="2420640"/>
            <a:chOff x="2438280" y="1447920"/>
            <a:chExt cx="2133720" cy="242064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438280" y="1447920"/>
              <a:ext cx="202896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047760" y="2057400"/>
              <a:ext cx="152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ltura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pon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590920"/>
            <a:ext cx="2330280" cy="2311200"/>
            <a:chOff x="2133720" y="2590920"/>
            <a:chExt cx="2330280" cy="23112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133720" y="2590920"/>
              <a:ext cx="233028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286000" y="3200400"/>
              <a:ext cx="167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plicit Instruction of Academic &amp; Social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51400" y="2755800"/>
            <a:ext cx="2330280" cy="2295360"/>
            <a:chOff x="4451400" y="2755800"/>
            <a:chExt cx="2330280" cy="229536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4451400" y="2755800"/>
              <a:ext cx="2330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289480" y="344160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-Based Decision Ma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70480" y="1447920"/>
            <a:ext cx="2101680" cy="2385720"/>
            <a:chOff x="4470480" y="1447920"/>
            <a:chExt cx="2101680" cy="238572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470480" y="1447920"/>
              <a:ext cx="210168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0" y="2057400"/>
              <a:ext cx="167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laborative Probl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38280" y="3800520"/>
            <a:ext cx="2048040" cy="2295360"/>
            <a:chOff x="2438280" y="3800520"/>
            <a:chExt cx="2048040" cy="229536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2438280" y="3800520"/>
              <a:ext cx="204804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464832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earch Validate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44920" y="3809880"/>
            <a:ext cx="1955880" cy="2274840"/>
            <a:chOff x="4444920" y="3809880"/>
            <a:chExt cx="1955880" cy="227484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444920" y="3809880"/>
              <a:ext cx="195588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95680" y="457200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cademi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amp; Behavioral Supports for Each and 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863960" y="369576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267080"/>
            <a:ext cx="30456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54480"/>
            <a:ext cx="30456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20960" y="364500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17484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3174840"/>
            <a:ext cx="304920" cy="276480"/>
          </a:xfrm>
          <a:prstGeom prst="rect">
            <a:avLst/>
          </a:prstGeom>
          <a:solidFill>
            <a:srgbClr val="00e7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1919"/>
                </a:solidFill>
                <a:latin typeface="Times New Roman"/>
                <a:ea typeface="ＭＳ Ｐゴシック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hree-Tiered RTI Model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rizona’s depictio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76520"/>
            <a:ext cx="5029200" cy="4952880"/>
          </a:xfrm>
          <a:prstGeom prst="ellipse">
            <a:avLst/>
          </a:prstGeom>
          <a:solidFill>
            <a:srgbClr val="00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0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200400"/>
            <a:ext cx="2590560" cy="25909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572000"/>
            <a:ext cx="1038240" cy="1066680"/>
          </a:xfrm>
          <a:prstGeom prst="ellipse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1337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98200" y="36576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029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114440" y="525780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14800" y="3886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14440" y="243828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tI and Federal Regul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by NCLB,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f gener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urriculum that addresses needs of all students and all sub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l instruction for struggling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ve interventions for students who have not experienc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over discrep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ederal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percent of IDEA Part B funds can be used for early 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CLB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ve Components of Reading Instr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ve Missing Pillars of Reading Instr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0512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 to interesting texts and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ching kids with appropriate tex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ing and Reading have reciprocal positive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ance whole class teaching with small group and side by side instr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ility of expert tuto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240" y="652140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ard Allington, Ph.D., University of Tenne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880" y="3808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d with books and writing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ositions and illustrations about books prominently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e variety of genre available--informational texts and litera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portunity to read independently--self selected boo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cial book centers and places to read comfortab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t visits to the libr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-led discussions of boo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nering with another child or pa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6521400"/>
            <a:ext cx="449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sley, Rankin Yokoi, 1996   Cunningham, 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3:57:35Z</dcterms:created>
  <dc:creator>CMagliocco</dc:creator>
  <dc:description/>
  <dc:language>en-US</dc:language>
  <cp:lastModifiedBy>cmagliocco</cp:lastModifiedBy>
  <dcterms:modified xsi:type="dcterms:W3CDTF">2007-10-15T13:50:58Z</dcterms:modified>
  <cp:revision>5</cp:revision>
  <dc:subject/>
  <dc:title>Slide 1</dc:title>
</cp:coreProperties>
</file>